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F200-176C-47B8-AFBA-1D5737E0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849-05C3-4EF8-8C0F-FEBB1D8B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F500-E4E9-446B-8306-1A4022A1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B532-668F-4627-A848-4BE91226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7AA9-FBFA-4AA2-A11B-9C5675D7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4A7-BC67-4228-BB1C-5A869226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17D-6A8B-4CBC-BF2A-F746A001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901-506C-41D3-A7FD-2A80DF78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DA28-6AB6-4C50-8272-7C575D75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8E3A-5A96-48F7-8037-1723F445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C91A-2D5A-4AB8-AA28-B55D7099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062-9D04-4977-8FDA-ABF4998A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1CC3-AE8F-460A-881B-B12191D38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ontent Placeholder 2"/>
          <p:cNvSpPr/>
          <p:nvPr/>
        </p:nvSpPr>
        <p:spPr>
          <a:xfrm>
            <a:off x="428760" y="1600200"/>
            <a:ext cx="41432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One side is the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ahoma"/>
              </a:rPr>
              <a:t>Docu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--</a:t>
            </a:r>
            <a:r>
              <a:rPr b="0" lang="en-US" sz="2800" spc="-1" strike="noStrike">
                <a:solidFill>
                  <a:srgbClr val="00b050"/>
                </a:solidFill>
                <a:latin typeface="Tahoma"/>
                <a:ea typeface="Tahoma"/>
              </a:rPr>
              <a:t>the maps themsel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One side is the Review Process--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  <a:ea typeface="Tahoma"/>
              </a:rPr>
              <a:t>the collaborative examination and revis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of the maps by the teach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571680" y="27792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  <a:ea typeface="Tahoma"/>
              </a:rPr>
              <a:t>Mapping:  A Two-Sided Coin</a:t>
            </a:r>
            <a:br>
              <a:rPr sz="4400"/>
            </a:br>
            <a:r>
              <a:rPr b="0" lang="en-US" sz="1000" spc="-1" strike="noStrike">
                <a:solidFill>
                  <a:srgbClr val="000000"/>
                </a:solidFill>
                <a:latin typeface="Berlin Sans FB"/>
                <a:ea typeface="Tahoma"/>
              </a:rPr>
              <a:t>Module 1, Figure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Content Placeholder 4" descr="marc"/>
          <p:cNvPicPr/>
          <p:nvPr/>
        </p:nvPicPr>
        <p:blipFill>
          <a:blip r:embed="rId1"/>
          <a:stretch/>
        </p:blipFill>
        <p:spPr>
          <a:xfrm>
            <a:off x="4929120" y="2214720"/>
            <a:ext cx="38577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9:50:29Z</dcterms:created>
  <dc:creator>llakins</dc:creator>
  <dc:description/>
  <dc:language>en-US</dc:language>
  <cp:lastModifiedBy>llakins</cp:lastModifiedBy>
  <dcterms:modified xsi:type="dcterms:W3CDTF">2009-08-11T19:52:50Z</dcterms:modified>
  <cp:revision>1</cp:revision>
  <dc:subject/>
  <dc:title>Slide 1</dc:title>
</cp:coreProperties>
</file>